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11B-C75F-4803-89C7-97DB2A67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028-6AD0-471C-A2BB-822E35E3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6D9-3D23-458B-8204-1C83863A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F6A-5635-4F49-A5CE-CD794995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55C-7BD2-4D19-ABA9-FB59CBDC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54E-1525-472B-885C-3182AF85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A19-2FB4-4E87-8420-EA949DF0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65C-BB7E-4EC2-9BC4-7EF68E85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AF3-7298-4603-B1CE-9665DB6A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D3B-F88B-4628-AFF0-215053C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E3F-494D-4277-8F5E-4BB063E2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51B-8B4E-495F-B444-7959CA32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8F7F-ED0B-498C-A9E7-273F66D81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05800" y="6095880"/>
            <a:ext cx="3049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05800" y="4876920"/>
            <a:ext cx="3049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05800" y="4121280"/>
            <a:ext cx="304920" cy="69192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5800" y="609480"/>
            <a:ext cx="3049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876920"/>
            <a:ext cx="69343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121280"/>
            <a:ext cx="6934320" cy="685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609480"/>
            <a:ext cx="69343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043480" y="21016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5400000">
            <a:off x="8373240" y="428616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95440"/>
            <a:ext cx="7081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8:00-9:00am, California Room, Bert Overdu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02960" y="4084560"/>
            <a:ext cx="57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a Comprehensive Genomics, Genetics &amp; Breeding DB for Caca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3:45-4:00pm, Pacific Salon 6 &amp; 7, Ping Zhe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to Use MetaCyc and the Pathway Tools Software in Local 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4:30-4:50pm, California Room, Lukas Mue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247600" y="5263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876920"/>
            <a:ext cx="7021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798: CottonDB: An Integrated Repository Resource for Cot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0: Genome Annotation and Report System: An Integrated System for Structural &amp; Functional Genome Ann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5: GnpIS, A Portal andInformation System to Bridge Genetics and Genomics Pland &amp; Fungi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4: Informatics for Turbo-charged Comparative Biology: Highlights from the GMOD Evo Hackat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8: A Complete Community Annotation System using GMO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28: GBrowse 2.2: Fast, Friendly, and Soc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88: GDR (Genome Database f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Building Resources for Translational Research i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5800" y="601560"/>
            <a:ext cx="1340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CCA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647712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095880"/>
            <a:ext cx="69343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8680" y="6093000"/>
            <a:ext cx="634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nd at least 8 other talks and 9 more posters by GMOD users (see http://gmod.org/wiki/PAG_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2200" y="603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1752480"/>
            <a:ext cx="563868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1752480"/>
            <a:ext cx="129564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6280" y="3429000"/>
            <a:ext cx="1105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:20 - 5: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cific Salon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752480"/>
            <a:ext cx="56386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0:30-11:30am, Pacific Salon 3, Carson Ho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1:30am-12:30pm, Pacific Salon 3, Dan Blankenbe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Browse: A Next Generation Genome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:30-2:30pm, Pacific Salon 3, Mitch Skinn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pal: A Construction Toolkit for Online Genomic Datab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2:30-3:30pm, Pacific Salon 3, Stephen Fick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views: A Configurable Interface for GMOD Databases &amp;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3:45-4:00pm, Pacific Salon 3, Michael Ca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Browse_syn: The Generic Synteny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4:00-5:00pm, Pacific Salon 3, Robert Bue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7000" y="1793880"/>
            <a:ext cx="1137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o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12-27T05:38:31Z</cp:lastPrinted>
  <dcterms:modified xsi:type="dcterms:W3CDTF">2011-01-04T20:58:57Z</dcterms:modified>
  <cp:revision>46</cp:revision>
  <dc:subject/>
  <dc:title>PowerPoint Presentation</dc:title>
</cp:coreProperties>
</file>